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13D-66E9-47D3-9FF4-D6E2B861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06BF-CF85-4127-BBFB-95B4591F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D6D2-D845-45D0-B511-8F6B2FF0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007-6214-465D-8488-A9B62FCA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1AF7-BFE0-48F3-A8C6-7EE295E1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B0F1-D61B-4C27-B6FF-E38AD7DF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1731-A0D1-45D3-8447-14542ADB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7619-1ACA-4149-949C-D029F5AF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1D73-9BEB-450E-B550-54C99B25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FACF-D9F1-4A08-AF63-08281EBE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14A6-E03A-45B6-B2E2-DC045DCA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1624-3376-45D3-AC9B-80C7E90F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90E5-285A-4B1B-A56E-E0F494E6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2372-AD6A-4DAB-A862-9C421644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6385-0921-4098-8D12-FB0A48ED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6AB0-9224-41BA-9077-C20B3BA0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31C9-9F77-408B-9745-4B08CC80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75E-2792-4C5D-A076-8B1B553A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03FF-CE7A-4DC4-9D7A-BD6A18CC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9ED2-4505-4313-9D79-01FE9EDE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EDAF-46E4-481F-912F-B91A2AA7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F65-E8F9-4A7D-9492-F80B2424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9FFD-B9D0-46ED-8413-EAFE2ADD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60B6-F393-444F-8FF6-C8CFD211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1060-DDCD-414B-A6C9-6AFCCDB08F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6FCE-67F3-4244-B1E8-827DEF0E8C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nd.galegroup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Lauryn and Rachel Mone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Ozone Layer Depletion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is the Ozone layer?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zo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ay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n atmospheric layer that helps shield life from ultraviolet radiation, which helps minimize the breakage of DN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4" descr="ozone1"/>
          <p:cNvPicPr/>
          <p:nvPr/>
        </p:nvPicPr>
        <p:blipFill>
          <a:blip r:embed="rId1"/>
          <a:stretch/>
        </p:blipFill>
        <p:spPr>
          <a:xfrm>
            <a:off x="2666880" y="3581280"/>
            <a:ext cx="32925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4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14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5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ood vs Bad Oz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492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od ozone is found in stratosp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locks UV light – prevents canc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d ozone is a pollutant in the troposp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the air w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eath – can ca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piratory issu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onent of smo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4541760" y="3124080"/>
            <a:ext cx="46022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9" descr="graphic_ozone_location"/>
          <p:cNvPicPr/>
          <p:nvPr/>
        </p:nvPicPr>
        <p:blipFill>
          <a:blip r:embed="rId1"/>
          <a:stretch/>
        </p:blipFill>
        <p:spPr>
          <a:xfrm>
            <a:off x="2517840" y="304920"/>
            <a:ext cx="48499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w is it happening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lorofluorocarbons (CFCs), are chemicals that are emitted into the lower atmosphe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chemicals slowly penetrate into the stratosphere, where they then consume ozone molecul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y all the depletion? </a:t>
            </a:r>
            <a:r>
              <a:rPr b="0" lang="en-US" sz="5200" spc="-1" strike="noStrike">
                <a:solidFill>
                  <a:srgbClr val="ffffcc"/>
                </a:solidFill>
                <a:latin typeface="Wingdings"/>
                <a:ea typeface="Wingdings"/>
              </a:rPr>
              <a:t></a:t>
            </a:r>
            <a:endParaRPr b="0" lang="en-US" sz="5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rst observed in the mid-1980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, pollution is the factor causing ozone layer deple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amples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micals in air conditioning and cooling uni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erosol spray (hairsprays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eaning processes of electronical equipm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72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74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76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78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80" dur="2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is ultraviolet radiatio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ltraviolet light is a form of electromagnetic radi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term electromagnetic spectrum refers to all forms of energy transmitted by means of waves traveling at the speed of ligh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the radiation that causes tanning and sunburns and can lead to skin cance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ozone3"/>
          <p:cNvPicPr/>
          <p:nvPr/>
        </p:nvPicPr>
        <p:blipFill>
          <a:blip r:embed="rId1"/>
          <a:stretch/>
        </p:blipFill>
        <p:spPr>
          <a:xfrm>
            <a:off x="4343400" y="4237200"/>
            <a:ext cx="32767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reedman, Bill. "Ozone layer depletion."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Gale Encyclopedia of Science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Ed. K. Lee Lerner and Brenda Wilmoth Lerner. 4th ed. Detroit: Gale Group, 2008.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Student Resource Center - Gold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Gale. Stroudsburg High School. 26 Feb. 2009 &lt;http://find.galegroup.com&gt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"Ozone."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World of Scientific Discover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Ed. Kimberley A. McGrath and Bridget Travers. Online ed. Detroit: Thomson Gale, 2007.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Student Resource Center - Gold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Gale. Stroudsburg High School. 26 Feb. 2009 </a:t>
            </a:r>
            <a:r>
              <a:rPr b="0" lang="en-US" sz="1400" spc="-1" strike="noStrike" u="sng">
                <a:solidFill>
                  <a:srgbClr val="1ace9f"/>
                </a:solidFill>
                <a:uFillTx/>
                <a:latin typeface="Verdana"/>
                <a:hlinkClick r:id="rId1"/>
              </a:rPr>
              <a:t>http://find.galegroup.co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"Electromagnetic spectrum."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UXL Encyclopedia of Science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Ed. Rob Nagel. 2nd ed. Detroit: U*X*L, 2007.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Student Resource Center - Gold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Gale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3:41:12Z</dcterms:created>
  <dc:creator>sasd</dc:creator>
  <dc:description/>
  <dc:language>en-US</dc:language>
  <cp:lastModifiedBy>dhakim</cp:lastModifiedBy>
  <dcterms:modified xsi:type="dcterms:W3CDTF">2012-03-28T13:27:28Z</dcterms:modified>
  <cp:revision>28</cp:revision>
  <dc:subject/>
  <dc:title>Ozone Layer Depletion</dc:title>
</cp:coreProperties>
</file>